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64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7398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84480" indent="-40644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84480" indent="-406440">
              <a:spcBef>
                <a:spcPts val="9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0" y="0"/>
            <a:ext cx="11836440" cy="6146640"/>
            <a:chOff x="0" y="0"/>
            <a:chExt cx="11836440" cy="61466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rcRect l="0" t="12870" r="0" b="12875"/>
            <a:stretch/>
          </p:blipFill>
          <p:spPr>
            <a:xfrm>
              <a:off x="203040" y="203040"/>
              <a:ext cx="11430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614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harmBiz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oftware Vendors Forum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ssist with adoption of PBS XM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2nd &amp; 4th quarter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ptions: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Hands-on tutorial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1-1 consulting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9528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???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tup: BYO laptop?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oftware: which database? which language?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Location: probably Canberr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avenous Chemotherapy Supply Progra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mplementation delaye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ublished April 2009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 use in production with PharmCI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ajor change: pricing mod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hilosophy: reduce or eliminate interpretation/calcul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ase (source) values published in XM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ll derived values also publishe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ase values: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P price, ex-man &amp; P2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imbursement price, ex-man &amp; P2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ees and marku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erived values: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harmacist pack pric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harmacist price for MQ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PMQ: RP, benchmark, reimbursem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ntributions: TGP/SPC, brand premiu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2336760"/>
            <a:ext cx="1209024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restricted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d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2315W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cod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ricing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reimbursemen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ex-manufacturer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440.0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ex-manufacturer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to-pharmacist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484.0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to-pharmacis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ack-pric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532.4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pack-pric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reimbursemen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benchmark-dpmq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995.15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benchmark-dpmq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336760"/>
            <a:ext cx="1209024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maximum-safety-net-valu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29.50</a:t>
            </a:r>
            <a:r>
              <a:rPr b="0" lang="en-US" sz="22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maximum-safety-net-value&gt;</a:t>
            </a:r>
            <a:endParaRPr b="0" lang="en-US" sz="22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maximum-patient-charg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29.50</a:t>
            </a:r>
            <a:r>
              <a:rPr b="0" lang="en-US" sz="24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maximum-patient-charge&gt;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ntribu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ntribution-typ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contrib:special-patient</a:t>
            </a:r>
            <a:r>
              <a:rPr b="0" lang="en-US" sz="19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contribution-type&gt;</a:t>
            </a:r>
            <a:endParaRPr b="0" lang="en-US" sz="19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amount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457.6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amoun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contribu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effectivity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start&gt;2008-01-01&lt;/pbs:star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effectivity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2336760"/>
            <a:ext cx="12090240" cy="73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fees-lis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fe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typ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fee:safety-net-recording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typ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db:titl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Safety Net Recording Fee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db:titl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ric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0.0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pric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fe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fe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typ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fee:ready-prepared-extra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typ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db:titl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Additional Ready Prepared Fee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db:titl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ric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0.0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pric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fe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fees-lis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2336760"/>
            <a:ext cx="1209024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rices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brand-reference xlink:href=”#d47492746”/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markup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d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cod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limit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0.01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limi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amount type=”percent”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1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amoun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markup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ack-price&gt;1072.83&lt;/pbs:pack-pric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dpmq&gt;1077.98&lt;/pbs:dpmq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2336760"/>
            <a:ext cx="1209024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effectivity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start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2008-02-01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star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effectivity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ntribu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ntribution-type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contrib:brand-premium</a:t>
            </a:r>
            <a:r>
              <a:rPr b="0" lang="en-US" sz="14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contribution-type&gt;</a:t>
            </a:r>
            <a:endParaRPr b="0" lang="en-US" sz="14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amount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82.83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amoun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contribu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prices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pricing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XML v2.2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2336760"/>
            <a:ext cx="120902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brand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pricing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ex-manufacturer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885.3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ex-manufacturer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to-pharmacist&gt;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975.30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to-pharmacis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pricing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brand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strictions Wording Too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strictions are currently unstructure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 will build restrictions from component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XML represent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RDF-based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PBS XML will carry dual representation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 Light"/>
              </a:rPr>
              <a:t>RWT + DocBook</a:t>
            </a:r>
            <a:endParaRPr b="0" lang="en-US" sz="3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RWT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ata mod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7" name=""/>
          <p:cNvSpPr/>
          <p:nvPr/>
        </p:nvSpPr>
        <p:spPr>
          <a:xfrm>
            <a:off x="1447920" y="4521240"/>
            <a:ext cx="241272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08040">
                  <a:alpha val="75294"/>
                </a:srgbClr>
              </a:gs>
              <a:gs pos="100000">
                <a:srgbClr val="008000">
                  <a:alpha val="75294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prescribing rul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8" name=""/>
          <p:cNvSpPr/>
          <p:nvPr/>
        </p:nvSpPr>
        <p:spPr>
          <a:xfrm>
            <a:off x="5156280" y="4521240"/>
            <a:ext cx="2057400" cy="1371600"/>
          </a:xfrm>
          <a:prstGeom prst="roundRect">
            <a:avLst>
              <a:gd name="adj" fmla="val 13889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indication se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9" name=""/>
          <p:cNvSpPr/>
          <p:nvPr/>
        </p:nvSpPr>
        <p:spPr>
          <a:xfrm>
            <a:off x="5092560" y="7162920"/>
            <a:ext cx="2171880" cy="787320"/>
          </a:xfrm>
          <a:prstGeom prst="roundRect">
            <a:avLst>
              <a:gd name="adj" fmla="val 24190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indica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0" name=""/>
          <p:cNvSpPr/>
          <p:nvPr/>
        </p:nvSpPr>
        <p:spPr>
          <a:xfrm>
            <a:off x="8242200" y="2717640"/>
            <a:ext cx="283212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00080">
                  <a:alpha val="75294"/>
                </a:srgbClr>
              </a:gs>
              <a:gs pos="100000">
                <a:srgbClr val="000080">
                  <a:alpha val="75294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circumstanc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25800" y="5156280"/>
            <a:ext cx="1176480" cy="111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265160" y="3949560"/>
            <a:ext cx="947880" cy="11671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3" name=""/>
          <p:cNvSpPr/>
          <p:nvPr/>
        </p:nvSpPr>
        <p:spPr>
          <a:xfrm>
            <a:off x="6184800" y="5983200"/>
            <a:ext cx="0" cy="11001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4" name=""/>
          <p:cNvSpPr/>
          <p:nvPr/>
        </p:nvSpPr>
        <p:spPr>
          <a:xfrm>
            <a:off x="5092560" y="2717640"/>
            <a:ext cx="2171880" cy="787680"/>
          </a:xfrm>
          <a:prstGeom prst="roundRect">
            <a:avLst>
              <a:gd name="adj" fmla="val 24190"/>
            </a:avLst>
          </a:prstGeom>
          <a:gradFill rotWithShape="0">
            <a:gsLst>
              <a:gs pos="0">
                <a:srgbClr val="0082e5">
                  <a:alpha val="75294"/>
                </a:srgbClr>
              </a:gs>
              <a:gs pos="100000">
                <a:srgbClr val="0057e5">
                  <a:alpha val="65098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definition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172200" y="3583080"/>
            <a:ext cx="0" cy="8841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6" name=""/>
          <p:cNvSpPr/>
          <p:nvPr/>
        </p:nvSpPr>
        <p:spPr>
          <a:xfrm>
            <a:off x="8242200" y="4533840"/>
            <a:ext cx="283212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00080">
                  <a:alpha val="75294"/>
                </a:srgbClr>
              </a:gs>
              <a:gs pos="100000">
                <a:srgbClr val="000080">
                  <a:alpha val="75294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requiremen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7" name=""/>
          <p:cNvSpPr/>
          <p:nvPr/>
        </p:nvSpPr>
        <p:spPr>
          <a:xfrm>
            <a:off x="8242200" y="6692760"/>
            <a:ext cx="2832120" cy="1270080"/>
          </a:xfrm>
          <a:prstGeom prst="roundRect">
            <a:avLst>
              <a:gd name="adj" fmla="val 15000"/>
            </a:avLst>
          </a:prstGeom>
          <a:gradFill rotWithShape="0">
            <a:gsLst>
              <a:gs pos="0">
                <a:srgbClr val="000080">
                  <a:alpha val="75294"/>
                </a:srgbClr>
              </a:gs>
              <a:gs pos="100000">
                <a:srgbClr val="000080">
                  <a:alpha val="75294"/>
                </a:srgbClr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parameter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8" name=""/>
          <p:cNvSpPr/>
          <p:nvPr/>
        </p:nvSpPr>
        <p:spPr>
          <a:xfrm>
            <a:off x="9664560" y="4014720"/>
            <a:ext cx="0" cy="478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9" name=""/>
          <p:cNvSpPr/>
          <p:nvPr/>
        </p:nvSpPr>
        <p:spPr>
          <a:xfrm>
            <a:off x="9664560" y="5894280"/>
            <a:ext cx="0" cy="70668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RWT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pulating dat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xampl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RWT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3" name=""/>
          <p:cNvSpPr/>
          <p:nvPr/>
        </p:nvSpPr>
        <p:spPr>
          <a:xfrm>
            <a:off x="669240" y="2324160"/>
            <a:ext cx="839628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restricted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de&gt;1234X&lt;/pbs:cod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ready-prepared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authority-lis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authority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restriction </a:t>
            </a:r>
            <a:r>
              <a:rPr b="0" lang="en-US" sz="3600" spc="-1" strike="noStrike">
                <a:solidFill>
                  <a:srgbClr val="ff8000"/>
                </a:solidFill>
                <a:latin typeface="Helvetica Neue Light"/>
                <a:ea typeface="Helvetica Neue Light"/>
              </a:rPr>
              <a:t>xlink:href=”#eg1”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pbs:code&gt;0001&lt;/pbs:cod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dbk:para&gt;Eczema&lt;/dbk:para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restric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pbs:authority-lis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RWT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5" name=""/>
          <p:cNvSpPr/>
          <p:nvPr/>
        </p:nvSpPr>
        <p:spPr>
          <a:xfrm>
            <a:off x="576000" y="2171880"/>
            <a:ext cx="10329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df:RDF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Indication-Set rdf:about=”eg1”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code&gt;0001&lt;/rwt:cod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has-indication rdf:resource=”eg1-1”/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has-circumstance rdf:resource=”eg1-2”/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rwt:Indication-Set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Indication rdf:about=”eg1-1”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condition&gt;Eczema&lt;/rwt:condi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Indication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RWT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7" name=""/>
          <p:cNvSpPr/>
          <p:nvPr/>
        </p:nvSpPr>
        <p:spPr>
          <a:xfrm>
            <a:off x="365400" y="2768760"/>
            <a:ext cx="1202976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Circumstance rdf:about=”eg1-2”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rwt:authority-method rdf:resource=”am:restricted”/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rwt:Circumstance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  <a:ea typeface="Helvetica Neue Light"/>
              </a:rPr>
              <a:t>&lt;/rdf:RDF&gt;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Number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a.k.a. PBS Item Code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4 digit item codes exhausted in 2010-2011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However...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Recovery of unused codes yields ~400 codes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 Light"/>
              </a:rPr>
              <a:t>+1 year </a:t>
            </a:r>
            <a:r>
              <a:rPr b="0" lang="en-US" sz="2900" spc="-1" strike="noStrike">
                <a:solidFill>
                  <a:srgbClr val="ffffff"/>
                </a:solidFill>
                <a:latin typeface="Helvetica Neue Light"/>
                <a:ea typeface="ヒラギノ角ゴ ProN W3"/>
              </a:rPr>
              <a:t>⇒</a:t>
            </a:r>
            <a:r>
              <a:rPr b="0" lang="en-US" sz="3200" spc="-1" strike="noStrike">
                <a:solidFill>
                  <a:srgbClr val="ffffff"/>
                </a:solidFill>
                <a:latin typeface="Helvetica Neue Light"/>
              </a:rPr>
              <a:t> 2012</a:t>
            </a:r>
            <a:endParaRPr b="0" lang="en-US" sz="32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PharmCIS will release 200 codes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Neue Light"/>
                <a:ea typeface="ヒラギノ角ゴ ProN W3"/>
              </a:rPr>
              <a:t>+1 year ⇒ 2013</a:t>
            </a:r>
            <a:endParaRPr b="0" lang="en-US" sz="3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Number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de blocks will soon become unreliabl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em code allocation will soon become rando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Number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imetable for introduction of 5 digit cod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Q: vendor read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esting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oordinate with vendors &amp; Medicar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BS Number, Cont’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oposal: new measures use 5 digit code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87320" y="2768760"/>
            <a:ext cx="11430000" cy="600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troduction/setu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Number (Item Code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Helvetica Neue Light"/>
              </a:rPr>
              <a:t>Forums and Workshop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CSP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BS XML v2.2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W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ther Busines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orums and Workshop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harmBiz Foru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Face-to-face meeting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Discuss technical issues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510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Helvetica Neue Light"/>
              </a:rPr>
              <a:t>Meets bi-annually, 1st &amp; 3rd quarter</a:t>
            </a:r>
            <a:endParaRPr b="0" lang="en-US" sz="34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